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4B2C-84C3-4A03-A58C-F030D5E7E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618E-CE61-4414-A5DE-1125A0F35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AE13-8257-4367-B71B-17FA9C016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D481-8E92-4CE0-8956-9AE13A919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0C0FB-D111-42A9-A733-E59FC413D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745CC-9D9A-4CE5-8331-C1A352D31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BC2DB-EA6C-4515-8BFD-097B46CBD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F80A1-4AD9-4925-9115-3A802223E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7B6EF-AE4C-44AE-8FF2-C56EEBEE9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7A80F-FD9F-46E6-B94B-E730F9A3D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763AC-58EF-4C4D-B996-F90FD815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C242-CE02-440C-BFEA-4CB99117B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75698-C9C0-4C3A-B1A2-DA92DD57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3A58C-DCB4-4BE0-8FE7-23AE1550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895E5-E6A3-41FE-9F9F-A44CF070E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7E100-F4DA-4D41-B216-36A18484A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AF18E-EA2D-4D9C-A280-A1C6D8D3C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6A2B-43C4-4BDA-ABD6-8F684EBDB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9882-A2B2-4A56-8B5F-B61471765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2B9C-8936-40AD-9B45-53B575C75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CE9A-1694-4AB0-BCE4-2C5295E61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A5C5-6982-4547-862F-343C098F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36CB-9D11-44FE-9CA4-8372A552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15F2-871B-49B3-BD35-8E0484D3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11C32-27BD-4109-8AD2-018DC2C1F68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4619A-79F8-4964-891F-8E5C767B660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Monday, May 11, 2008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304560" y="9907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bjective: Students will be able to create identify the difference between facts, quotes, and opin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o-now: Record your notebook check 1,2,3, and in your Quizzes Section on page 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Activity 2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the article with a partner. Highlight any facts, quotes, or opinions you can fi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 the lin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end your reas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 other text features you could fi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240" y="122040"/>
            <a:ext cx="8381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5/11/08</a:t>
            </a: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Cornell Notes- Information Sources</a:t>
            </a: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pg. 53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nalyzing the information in feature articl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gazine and newspaper writers present their information in 3 different way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) Quo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) Fa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) Opin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Quot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Quot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ar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ords spoken by a person, that another person later re-states in their article, making sure to give credit to the person who said it originall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How do you recognize i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is the easiest type to find. Quotes have quotation marks around the text to show they are copying exactly what someone sai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ample of a quote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e said, “I am one hundred percent sure I saw John Smith leave the crime scene with victim’s sister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esus once said, “Do unto others, as you would do to them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dictionary says that, “Courage means to act brave knowing the dangers present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122040"/>
            <a:ext cx="7238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Fact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15328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acts,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re true statements or things that have been proven to be tru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How do I recognize fact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cts are usually backed up with data, statistics, studies, etc. They have to be proven somehow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facts can also be quotes if they were taken word for word out of another book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careful not to confuse facts with opin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one can argue against it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is the trut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122040"/>
            <a:ext cx="71629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Opinion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opin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writer’s personal beliefs, judgments, or thoughts on an issue. It is biased and does not mean it is the truth or right/ wrong view, but it is their view on the issu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do I recognize i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inions are often stated as “I” statements, such a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I believ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… However, sometimes the writer does not use I and just states it as a fact, when it is really their opinio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is the most tricky one to distinguish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is debatable. Someon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could argu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gainst i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amples of Opin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believe that all people should recyc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 people who do not recycle should be fined $100 a month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ving children before you get married is a si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bortions are wrong because they kill the lives of potential bab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ctivity 1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tatements sheet in front of you. Determine whether the statement is a fact, opinion, or a quote, by writing “F”, “O”, or “Q” on the lin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n answer the questions that follow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20:03:22Z</dcterms:created>
  <dc:creator>BPD</dc:creator>
  <dc:description/>
  <dc:language>en-US</dc:language>
  <cp:lastModifiedBy>BPS</cp:lastModifiedBy>
  <dcterms:modified xsi:type="dcterms:W3CDTF">2008-05-12T11:58:21Z</dcterms:modified>
  <cp:revision>7</cp:revision>
  <dc:subject/>
  <dc:title>Wednesday, May 7, 2008</dc:title>
</cp:coreProperties>
</file>